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288588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EBE0-2B5B-4175-8078-1050A325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9201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080" y="4064760"/>
            <a:ext cx="9201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165C-F76C-4244-9B0B-B8352D0B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29000" y="188568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080" y="406476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29000" y="406476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18DD-9114-4392-88FF-A7C5B6CEF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29624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25200" y="1885680"/>
            <a:ext cx="29624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35960" y="1885680"/>
            <a:ext cx="29624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080" y="4064760"/>
            <a:ext cx="29624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25200" y="4064760"/>
            <a:ext cx="29624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35960" y="4064760"/>
            <a:ext cx="29624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A748-A886-4652-BEE1-4573CCE6C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E125-9742-472B-B28F-05B56FA99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4080" y="1885680"/>
            <a:ext cx="92012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F720-6F32-420B-B817-ED70CC1C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9201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DDA6-CCFC-40AB-AB62-0AA3329B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489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29000" y="1885680"/>
            <a:ext cx="4489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1AE0-8FF3-41F3-98CE-F825FCC6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894C-7BF1-4E12-9593-D246EBA0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1000" y="457200"/>
            <a:ext cx="10029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3B5A-855B-4030-948F-43BBCA8F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29000" y="1885680"/>
            <a:ext cx="4489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4080" y="406476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311A-DFE2-4BFD-B72D-AB1C611D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080" y="1885680"/>
            <a:ext cx="92012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0AA7-AC35-47F2-953D-2D8872C3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489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29000" y="188568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29000" y="406476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7648-C737-4059-8DBF-18360701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29000" y="188568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4080" y="4064760"/>
            <a:ext cx="9201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757A-1605-4E69-B2F1-A7FEDACB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9201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080" y="4064760"/>
            <a:ext cx="9201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8F10-9823-457F-A507-F76882DD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29000" y="188568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4080" y="406476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229000" y="406476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710D-8C9C-4E42-9892-99DDCF87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29624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25200" y="1885680"/>
            <a:ext cx="29624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35960" y="1885680"/>
            <a:ext cx="29624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4080" y="4064760"/>
            <a:ext cx="29624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25200" y="4064760"/>
            <a:ext cx="29624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735960" y="4064760"/>
            <a:ext cx="29624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6ACC-8934-4E87-94A5-0B5FF6842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9201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BF5A-F5CD-4226-865D-B1A71243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489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29000" y="1885680"/>
            <a:ext cx="4489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887D-F8FC-42D0-AFB1-9F2F6836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85DA-EFFC-4C83-972E-0CE360D2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1000" y="457200"/>
            <a:ext cx="10029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2424-899E-492F-AFB5-007E0C94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29000" y="1885680"/>
            <a:ext cx="4489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080" y="406476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FAA5-AFE2-4E1B-9E8D-298530BE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489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29000" y="188568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29000" y="406476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A785-067B-4585-B28B-1B6F4F2B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29000" y="1885680"/>
            <a:ext cx="44899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080" y="4064760"/>
            <a:ext cx="92012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44B5-AD05-4A4A-B24F-AEF1DCD6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080" y="1885680"/>
            <a:ext cx="9201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6229440"/>
            <a:ext cx="214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2944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72240" y="6229440"/>
            <a:ext cx="214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AE3C-ED5F-48B1-AA33-675B2EB7DC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343080" y="1314360"/>
            <a:ext cx="9943920" cy="41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1000" y="83808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800280" y="6229080"/>
            <a:ext cx="21715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543480" y="6229080"/>
            <a:ext cx="32004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429320" y="6229080"/>
            <a:ext cx="20574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1395-D67B-4AE4-85BF-9ACF37B594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343080" y="1828800"/>
            <a:ext cx="9943920" cy="412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209320" y="2514240"/>
            <a:ext cx="720108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333300"/>
                </a:solidFill>
                <a:latin typeface="Monotype Corsiva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71000" y="83808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1" lang="pt-BR" sz="3600" spc="-1" strike="noStrike">
                <a:solidFill>
                  <a:srgbClr val="000000"/>
                </a:solidFill>
                <a:latin typeface="Colonna MT"/>
              </a:rPr>
              <a:t>A HISTÓRIA DO</a:t>
            </a:r>
            <a:r>
              <a:rPr b="1" lang="pt-BR" sz="36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Colonna MT"/>
              </a:rPr>
              <a:t>TEATRO EM VERSOS                               </a:t>
            </a:r>
            <a:r>
              <a:rPr b="1" lang="pt-BR" sz="3600" spc="-1" strike="noStrike">
                <a:solidFill>
                  <a:srgbClr val="000000"/>
                </a:solidFill>
                <a:latin typeface="Colonna MT"/>
              </a:rPr>
              <a:t>	</a:t>
            </a:r>
            <a:r>
              <a:rPr b="1" lang="pt-BR" sz="3600" spc="-1" strike="noStrike">
                <a:solidFill>
                  <a:srgbClr val="000000"/>
                </a:solidFill>
                <a:latin typeface="Colonna MT"/>
              </a:rPr>
              <a:t>	</a:t>
            </a:r>
            <a:r>
              <a:rPr b="1" lang="pt-BR" sz="3600" spc="-1" strike="noStrike">
                <a:solidFill>
                  <a:srgbClr val="000000"/>
                </a:solidFill>
                <a:latin typeface="Colonna MT"/>
              </a:rPr>
              <a:t>FOLHETO DE JÚNIO SANTOS</a:t>
            </a:r>
            <a:r>
              <a:rPr b="1" lang="pt-BR" sz="4000" spc="-1" strike="noStrike">
                <a:solidFill>
                  <a:srgbClr val="000000"/>
                </a:solidFill>
                <a:latin typeface="Colonna M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2514600"/>
            <a:ext cx="9144000" cy="36576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cc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r>
              <a:rPr b="1" lang="pt-BR" sz="5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pt-BR" sz="54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1" lang="pt-BR" sz="6600" spc="-1" strike="noStrike">
                <a:solidFill>
                  <a:srgbClr val="000000"/>
                </a:solidFill>
                <a:latin typeface="Monotype Corsiva"/>
              </a:rPr>
              <a:t>ENTRE       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000000"/>
                </a:solidFill>
                <a:latin typeface="Monotype Corsiva"/>
              </a:rPr>
              <a:t>                        </a:t>
            </a:r>
            <a:r>
              <a:rPr b="1" lang="pt-BR" sz="6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pt-BR" sz="6600" spc="-1" strike="noStrike">
                <a:solidFill>
                  <a:srgbClr val="000000"/>
                </a:solidFill>
                <a:latin typeface="Monotype Corsiva"/>
              </a:rPr>
              <a:t>O CHOR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000000"/>
                </a:solidFill>
                <a:latin typeface="Monotype Corsiva"/>
              </a:rPr>
              <a:t>                      </a:t>
            </a:r>
            <a:r>
              <a:rPr b="1" lang="pt-BR" sz="6600" spc="-1" strike="noStrike">
                <a:solidFill>
                  <a:srgbClr val="000000"/>
                </a:solidFill>
                <a:latin typeface="Monotype Corsiva"/>
              </a:rPr>
              <a:t>E  O   RISO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143000" y="3048120"/>
          <a:ext cx="400068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8120"/>
                    <a:ext cx="400068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ff"/>
                </a:solidFill>
                <a:latin typeface="Arial Black"/>
              </a:rPr>
              <a:t>TRAGÉDIA GREG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524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200" spc="-1" strike="noStrike">
                <a:solidFill>
                  <a:srgbClr val="25452a"/>
                </a:solidFill>
                <a:latin typeface="Arial Narrow"/>
              </a:rPr>
              <a:t>É a </a:t>
            </a:r>
            <a:r>
              <a:rPr b="1" i="1" lang="pt-BR" sz="1400" spc="-1" strike="noStrike">
                <a:solidFill>
                  <a:srgbClr val="25452a"/>
                </a:solidFill>
                <a:latin typeface="Arial Narrow"/>
              </a:rPr>
              <a:t>Ésquilo, Sófocle e Eurípedes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                                     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A  santa trindade teatral                                                           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Que o teatro de hoje                                                  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eve o seu referencial                                                           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Pois eles criaram e inovaram                                                       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Enfeitaram e nos deixaram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Tragédia tradicion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191200" y="1905120"/>
          <a:ext cx="4867200" cy="35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0" y="1905120"/>
                    <a:ext cx="4867200" cy="35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33ff"/>
                </a:solidFill>
                <a:latin typeface="Arial Black"/>
              </a:rPr>
              <a:t>COMÉDIA CLÁSSIC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524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XXII  </a:t>
            </a:r>
            <a:r>
              <a:rPr b="0" lang="pt-BR" sz="1400" spc="-1" strike="noStrike">
                <a:solidFill>
                  <a:srgbClr val="25452a"/>
                </a:solidFill>
                <a:latin typeface="Arial Narrow"/>
              </a:rPr>
              <a:t>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A comédia nasceu dos  Kômos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E o riso era sua essência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E foi com o mestre</a:t>
            </a:r>
            <a:r>
              <a:rPr b="1" i="1" lang="pt-BR" sz="1400" spc="-1" strike="noStrike">
                <a:solidFill>
                  <a:srgbClr val="25452a"/>
                </a:solidFill>
                <a:latin typeface="Arial Narrow"/>
              </a:rPr>
              <a:t> Aristófanes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Que ganhou mais consistência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Satirizando a humanidade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Brincando com a maldade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A fraqueza e a indecência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XXIII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A sua grande função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Era satirizar a falsidade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Fazer personagens grotescos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e herói virar covardes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Mexer com o povo todinho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Mostrar sentimentos mesquinhos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Sem dó e nem pieda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91200" y="1885680"/>
            <a:ext cx="4524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XXIV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Os principais autores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E traçadores do destino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Foram Epicarno e Magnes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Quiônides, Eupolís e Cratino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Posídio e Filemon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Ajudaram a dar o tom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esse teatro ferin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             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XXV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Mas o grande pai </a:t>
            </a:r>
            <a:r>
              <a:rPr b="1" i="1" lang="pt-BR" sz="1400" spc="-1" strike="noStrike">
                <a:solidFill>
                  <a:srgbClr val="25452a"/>
                </a:solidFill>
                <a:latin typeface="Arial Narrow"/>
              </a:rPr>
              <a:t>Aristófanes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Foi quem mais contribuiu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Com suas peças satíricas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e linguagem pouco gentil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                       “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Lisistrata”, “As Rãs” e                       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“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os Cavalheiros”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é     um    exemplo       ligeiro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esse        autor         varoni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33ff"/>
                </a:solidFill>
                <a:latin typeface="Arial Black"/>
              </a:rPr>
              <a:t>COMÉDIA CLÁSSIC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524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XXVI  </a:t>
            </a:r>
            <a:r>
              <a:rPr b="1" lang="pt-BR" sz="1800" spc="-1" strike="noStrike">
                <a:solidFill>
                  <a:srgbClr val="25452a"/>
                </a:solidFill>
                <a:latin typeface="Tahoma"/>
              </a:rPr>
              <a:t>                                                           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E foi por causa da alegria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Que se tornou popular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Às máscaras e roupas alegres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Vieram ao riso juntar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E a dança em seguida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Cada vez mais atrevida              V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eio pra embelez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XXVII </a:t>
            </a:r>
            <a:r>
              <a:rPr b="0" lang="pt-BR" sz="1400" spc="-1" strike="noStrike">
                <a:solidFill>
                  <a:srgbClr val="25452a"/>
                </a:solidFill>
                <a:latin typeface="Arial Narro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Hoje quem faz teatro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Tem o dever de conhecer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Os textos de </a:t>
            </a:r>
            <a:r>
              <a:rPr b="1" i="1" lang="pt-BR" sz="1400" spc="-1" strike="noStrike">
                <a:solidFill>
                  <a:srgbClr val="25452a"/>
                </a:solidFill>
                <a:latin typeface="Arial Narrow"/>
              </a:rPr>
              <a:t>Aristófanes 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E sobre a história saber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Pois sem nenhuma média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Ele é o pai da comédia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O amigo pode cr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mascara%20colorida" descr=""/>
          <p:cNvPicPr/>
          <p:nvPr/>
        </p:nvPicPr>
        <p:blipFill>
          <a:blip r:embed="rId1"/>
          <a:stretch/>
        </p:blipFill>
        <p:spPr>
          <a:xfrm>
            <a:off x="5450040" y="1886040"/>
            <a:ext cx="400500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33ff"/>
                </a:solidFill>
                <a:latin typeface="Arial Black"/>
              </a:rPr>
              <a:t>GLOSSÁR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524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1040" indent="-85104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RITUAL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: 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Cerimônia ou conjunto de cerimônias de uma      determinada religião, culto ou seit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851040" indent="-85104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BACANAL</a:t>
            </a:r>
            <a:r>
              <a:rPr b="0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: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 Festa romana celebrada em honra a Baco ( nome latino do deus grego Dioniso). Embora não iguais em todas as regiões, identificava-se sempre pelo caráter orgíaco e pela presença de mulheres tomadas de delírio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851040" indent="-85104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VINDIMA</a:t>
            </a:r>
            <a:r>
              <a:rPr b="0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: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 Colheita das uvas na época apropriad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851040" indent="-85104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ATENAS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: 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Uma das doze divindades do Olimpo. Deusa da inteligência e da sabedoria. Capital da civilização greg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851040" indent="-85104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SOLON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: 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Sábio racionalista, legislador e censor de costumes da Grécia antiga</a:t>
            </a:r>
            <a:r>
              <a:rPr b="0" lang="pt-BR" sz="1400" spc="-1" strike="noStrike">
                <a:solidFill>
                  <a:srgbClr val="25452a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851040" indent="-85104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THÉSPIS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: 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O primeiro ator e inventor do canto trágico, considerado o mais antigo dos trageógrafos grego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851040" indent="-85104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LEGIONÁRIO</a:t>
            </a:r>
            <a:r>
              <a:rPr b="0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: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 Soldado de legiã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851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91200" y="1885680"/>
            <a:ext cx="4524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PANTOMIMA</a:t>
            </a:r>
            <a:r>
              <a:rPr b="1" lang="pt-BR" sz="1200" spc="-1" strike="noStrike">
                <a:solidFill>
                  <a:srgbClr val="25452a"/>
                </a:solidFill>
                <a:latin typeface="Tahoma"/>
              </a:rPr>
              <a:t>: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 Peça teatral ou outro gênero        de espetáculo em que os atores exprimem         idéias e ações apenas por meio de   movimentos;  a arte  e a técnica de exprimir emoções e sentimentos por meio de gestos. O nome </a:t>
            </a:r>
            <a:r>
              <a:rPr b="1" lang="pt-BR" sz="1200" spc="-1" strike="noStrike">
                <a:solidFill>
                  <a:srgbClr val="25452a"/>
                </a:solidFill>
                <a:latin typeface="Tahoma"/>
              </a:rPr>
              <a:t>PANTOMIMO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 foi originalmente  dado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aos  antigos atores romanos duma cena muda; ma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tarde pantomima passou a significar a própria representação, no  gênero daquelas  em que aparec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a figura dum Arlequim</a:t>
            </a:r>
            <a:r>
              <a:rPr b="0" lang="pt-BR" sz="1400" spc="-1" strike="noStrike">
                <a:solidFill>
                  <a:srgbClr val="25452a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BACANTES</a:t>
            </a:r>
            <a:r>
              <a:rPr b="1" lang="pt-BR" sz="1200" spc="-1" strike="noStrike">
                <a:solidFill>
                  <a:srgbClr val="25452a"/>
                </a:solidFill>
                <a:latin typeface="Tahoma"/>
              </a:rPr>
              <a:t>: 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Seguidoras de Baco. Não  eram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sacerdotisas, mas ocupavam lugar de destaque n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religião e no culto a esse deus. Empunhavam o tirso, espécie de `lança enramada de hera. Cobert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apenas por  pele  de leão, celebravam as orgias            com gritos e danças desnorteadas. Mergulhavam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em  êxtase místico e adquiriam uma força prodigiosa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de que muitos heróis foram vítim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33ff"/>
                </a:solidFill>
                <a:latin typeface="Arial Black"/>
              </a:rPr>
              <a:t>GLOSSÁR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524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PROTAGONISTA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: Personagem principal de uma peça, de um romance, conto, filme, etc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25452a"/>
                </a:solidFill>
                <a:latin typeface="Tahoma"/>
              </a:rPr>
              <a:t>CORO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: Elemento do drama clássico grego; na antiga Grécia, o coro era um grupo de cantores e dançarinos que participavam nas festas religiosas e nas representações dramáticas e que, como atores, comentavam as ações das personagens e interpretavam para a assistência o significado dos acontecimento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COTURNO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: Bozerguim de sola muito alto usado pelos atores trágico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DRAMATURGO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: Na antiga Grécia era o “fazedor de peças teatrais”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DRAMATURGIA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: A arte e as técnicas da composição dramática. Dramaturgia emprega-se, geralmente, em referência à arte dramática na sua totalidade, incluindo a escrita, a montagem e a representação de peça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QUIÔNIDES</a:t>
            </a:r>
            <a:r>
              <a:rPr b="1" lang="pt-BR" sz="1200" spc="-1" strike="noStrike">
                <a:solidFill>
                  <a:srgbClr val="25452a"/>
                </a:solidFill>
                <a:latin typeface="Tahoma"/>
              </a:rPr>
              <a:t>: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 Poeta cômico antecessor de Aristófanes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1200" y="1885680"/>
            <a:ext cx="4524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KÔMOS</a:t>
            </a:r>
            <a:r>
              <a:rPr b="1" lang="pt-BR" sz="1200" spc="-1" strike="noStrike">
                <a:solidFill>
                  <a:srgbClr val="25452a"/>
                </a:solidFill>
                <a:latin typeface="Tahoma"/>
              </a:rPr>
              <a:t>: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 Dança cômica; procissão alegre. Elemento formador da Comédia Antiga,        somando-se este à farsa origina-se a   Comédia.  </a:t>
            </a:r>
            <a:r>
              <a:rPr b="1" lang="pt-BR" sz="1200" spc="-1" strike="noStrike">
                <a:solidFill>
                  <a:srgbClr val="25452a"/>
                </a:solidFill>
                <a:latin typeface="Tempus Sans ITC"/>
              </a:rPr>
              <a:t>“A etimologia, portanto, que    faz  provir Comédia            de Kômos = procissão   jocosa + oidé = canto + ia, komodia, pelo  latim Comoedia, dos Kômos dionisíacos, reconhecidos   e tutelados pela religião   do Estado, é verdadeira”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EPICARMO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: Primeiro autor que, de fato,    escreveu uma comédia digna desse nome.      Nascido em Cos e educado em Megara,           onde se transportou para Siracusa. Ali,              em 485 ªc, apresentou diversas comédias,   segundo    informa Suida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MAGNES, CRATINO, EUPOLIS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: Poeta cômicos contemporâneos de Aristófan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FILEMOM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: Poeta cômico da chamada        Comédia Nova contemporâneo de   Menandro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cc"/>
                </a:solidFill>
                <a:latin typeface="Arial Black"/>
              </a:rPr>
              <a:t>GLOSSÁR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524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ARISTÓFANES:</a:t>
            </a:r>
            <a:r>
              <a:rPr b="1" lang="pt-BR" sz="1200" spc="-1" strike="noStrike">
                <a:solidFill>
                  <a:srgbClr val="25452a"/>
                </a:solidFill>
                <a:latin typeface="Tahoma"/>
              </a:rPr>
              <a:t> 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Ateniense do séc.. V ªc., nos deixou onze comédias e á somente através delas que se pode não apenas fazer um juízo da comédia ática, mas ainda e sobretudo um levantamento das idéias básicas do maior cômico de todos os tempo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FRÍNICOS</a:t>
            </a:r>
            <a:r>
              <a:rPr b="1" lang="pt-BR" sz="1200" spc="-1" strike="noStrike">
                <a:solidFill>
                  <a:srgbClr val="25452a"/>
                </a:solidFill>
                <a:latin typeface="Tahoma"/>
              </a:rPr>
              <a:t>: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 Poeta cômico grego, discípulo de Théspis que dividiu o coro em duas metades e concedeu uma importância maior aos papéis femininos, escolhendo seus assuntos onde quer que se oferecesse alguma coisa de patético e de interessante, e não apenas nas aventuras de Dioniso ou nas tradições da época heróic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ÉSQUILO</a:t>
            </a:r>
            <a:r>
              <a:rPr b="1" lang="pt-BR" sz="1200" spc="-1" strike="noStrike">
                <a:solidFill>
                  <a:srgbClr val="25452a"/>
                </a:solidFill>
                <a:latin typeface="Tahoma"/>
              </a:rPr>
              <a:t>: 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Poeta trágico de Eleusis, nascido no último quartel do séc.. VI ªc., é considerado o pai da tragédi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SÓFOCLES</a:t>
            </a:r>
            <a:r>
              <a:rPr b="1" lang="pt-BR" sz="1200" spc="-1" strike="noStrike">
                <a:solidFill>
                  <a:srgbClr val="25452a"/>
                </a:solidFill>
                <a:latin typeface="Tahoma"/>
              </a:rPr>
              <a:t>: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 O segundo dos grandes trágicos da Grécia, nasceu em Colônia perto de Atenas entre 498 e 495 ªc.Escreveu cerca de 120 peças e foi o mais querido de todos os poetas gregos da tragédi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91200" y="1885680"/>
            <a:ext cx="4524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EURÍPEDES</a:t>
            </a:r>
            <a:r>
              <a:rPr b="1" lang="pt-BR" sz="1200" spc="-1" strike="noStrike">
                <a:solidFill>
                  <a:srgbClr val="25452a"/>
                </a:solidFill>
                <a:latin typeface="Tahoma"/>
              </a:rPr>
              <a:t>: 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O terceiro e último dos                  grandes trágicos gregos, nasceu em                                     Salamina, em486 ªc. Pensador e                observador atento, não foi um poeta          indiferente ao seu tempo e é  considerado                 o precursor do drama moderno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25452a"/>
                </a:solidFill>
                <a:uFillTx/>
                <a:latin typeface="Tahoma"/>
              </a:rPr>
              <a:t>SÁTIROS</a:t>
            </a:r>
            <a:r>
              <a:rPr b="1" lang="pt-BR" sz="1200" spc="-1" strike="noStrike">
                <a:solidFill>
                  <a:srgbClr val="25452a"/>
                </a:solidFill>
                <a:latin typeface="Tahoma"/>
              </a:rPr>
              <a:t>:</a:t>
            </a:r>
            <a:r>
              <a:rPr b="0" lang="pt-BR" sz="1200" spc="-1" strike="noStrike">
                <a:solidFill>
                  <a:srgbClr val="25452a"/>
                </a:solidFill>
                <a:latin typeface="Tahoma"/>
              </a:rPr>
              <a:t> Filhos de Baco e Nicéia, simbolizavam as forças incontroláveis da natureza vegetal e animal. Primitivamente,  eram representados com a parte inferior do corpo em forma de cavalo ou   de bode. Caracterizavam-se como seres bestiais, preguiçosos, covardes e particularmente sensuais, que aterrorizavam os pastores e viajantes. Mais tarde, passaram a ser  descritos como seres  jovens e doces,  travessos e maliciosos, interessados em  música e dança. Da forma  animal conservaram apenas as orelhas          pontiagudas, pequenos chifres e pés   de  cabra. Faziam parte do cortejo de Baco. No teatro antigo grego, chamava-se satírico a um gênero de peça burlesca e licenciosa  em que participava um          coro de sátiro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cc"/>
                </a:solidFill>
                <a:latin typeface="Arial Black"/>
              </a:rPr>
              <a:t>FONTES PESQUISAD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9201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244429"/>
                </a:solidFill>
                <a:latin typeface="Tahoma"/>
              </a:rPr>
              <a:t>Dicionário de Mitologia Grego -Romana</a:t>
            </a:r>
            <a:r>
              <a:rPr b="0" lang="pt-BR" sz="1400" spc="-1" strike="noStrike">
                <a:solidFill>
                  <a:srgbClr val="244429"/>
                </a:solidFill>
                <a:latin typeface="Tahoma"/>
              </a:rPr>
              <a:t> - Abril Cultur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44429"/>
                </a:solidFill>
                <a:latin typeface="Tahoma"/>
              </a:rPr>
              <a:t>SHAW</a:t>
            </a:r>
            <a:r>
              <a:rPr b="0" lang="pt-BR" sz="1400" spc="-1" strike="noStrike">
                <a:solidFill>
                  <a:srgbClr val="244429"/>
                </a:solidFill>
                <a:latin typeface="Tahoma"/>
              </a:rPr>
              <a:t>, Harry. </a:t>
            </a:r>
            <a:r>
              <a:rPr b="0" i="1" lang="pt-BR" sz="1400" spc="-1" strike="noStrike">
                <a:solidFill>
                  <a:srgbClr val="244429"/>
                </a:solidFill>
                <a:latin typeface="Tahoma"/>
              </a:rPr>
              <a:t>Dicionário de Termos Literários</a:t>
            </a:r>
            <a:r>
              <a:rPr b="0" lang="pt-BR" sz="1400" spc="-1" strike="noStrike">
                <a:solidFill>
                  <a:srgbClr val="244429"/>
                </a:solidFill>
                <a:latin typeface="Tahoma"/>
              </a:rPr>
              <a:t>. 2ª Edição. Publicação  Dom Quix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44429"/>
                </a:solidFill>
                <a:latin typeface="Tahoma"/>
              </a:rPr>
              <a:t>DUARTE</a:t>
            </a:r>
            <a:r>
              <a:rPr b="0" lang="pt-BR" sz="1400" spc="-1" strike="noStrike">
                <a:solidFill>
                  <a:srgbClr val="244429"/>
                </a:solidFill>
                <a:latin typeface="Tahoma"/>
              </a:rPr>
              <a:t>, Bandeira.  </a:t>
            </a:r>
            <a:r>
              <a:rPr b="0" i="1" lang="pt-BR" sz="1400" spc="-1" strike="noStrike">
                <a:solidFill>
                  <a:srgbClr val="244429"/>
                </a:solidFill>
                <a:latin typeface="Tahoma"/>
              </a:rPr>
              <a:t>História Geral do Teatro</a:t>
            </a:r>
            <a:r>
              <a:rPr b="0" lang="pt-BR" sz="1400" spc="-1" strike="noStrike">
                <a:solidFill>
                  <a:srgbClr val="244429"/>
                </a:solidFill>
                <a:latin typeface="Tahoma"/>
              </a:rPr>
              <a:t>.  Vol  II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44429"/>
                </a:solidFill>
                <a:latin typeface="Tahoma"/>
              </a:rPr>
              <a:t>BRANDÃO</a:t>
            </a:r>
            <a:r>
              <a:rPr b="0" lang="pt-BR" sz="1400" spc="-1" strike="noStrike">
                <a:solidFill>
                  <a:srgbClr val="244429"/>
                </a:solidFill>
                <a:latin typeface="Tahoma"/>
              </a:rPr>
              <a:t>, Junito de Souza. </a:t>
            </a:r>
            <a:r>
              <a:rPr b="0" i="1" lang="pt-BR" sz="1400" spc="-1" strike="noStrike">
                <a:solidFill>
                  <a:srgbClr val="244429"/>
                </a:solidFill>
                <a:latin typeface="Tahoma"/>
              </a:rPr>
              <a:t>Teatro Grego. Tragédia e Comédia</a:t>
            </a:r>
            <a:r>
              <a:rPr b="0" lang="pt-BR" sz="1400" spc="-1" strike="noStrike">
                <a:solidFill>
                  <a:srgbClr val="244429"/>
                </a:solidFill>
                <a:latin typeface="Tahoma"/>
              </a:rPr>
              <a:t>.  Ed. Voz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44429"/>
                </a:solidFill>
                <a:latin typeface="Tahoma"/>
              </a:rPr>
              <a:t>GILLES</a:t>
            </a:r>
            <a:r>
              <a:rPr b="0" lang="pt-BR" sz="1400" spc="-1" strike="noStrike">
                <a:solidFill>
                  <a:srgbClr val="244429"/>
                </a:solidFill>
                <a:latin typeface="Tahoma"/>
              </a:rPr>
              <a:t>, Girard, Real Oulet. </a:t>
            </a:r>
            <a:r>
              <a:rPr b="0" i="1" lang="pt-BR" sz="1400" spc="-1" strike="noStrike">
                <a:solidFill>
                  <a:srgbClr val="244429"/>
                </a:solidFill>
                <a:latin typeface="Tahoma"/>
              </a:rPr>
              <a:t>O Universo do Teatro</a:t>
            </a:r>
            <a:r>
              <a:rPr b="0" lang="pt-BR" sz="1400" spc="-1" strike="noStrike">
                <a:solidFill>
                  <a:srgbClr val="244429"/>
                </a:solidFill>
                <a:latin typeface="Tahoma"/>
              </a:rPr>
              <a:t>. Livraria Almeida. Coimbra. 1980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44429"/>
                </a:solidFill>
                <a:latin typeface="Tahoma"/>
              </a:rPr>
              <a:t>OITICICA</a:t>
            </a:r>
            <a:r>
              <a:rPr b="0" lang="pt-BR" sz="1400" spc="-1" strike="noStrike">
                <a:solidFill>
                  <a:srgbClr val="244429"/>
                </a:solidFill>
                <a:latin typeface="Tahoma"/>
              </a:rPr>
              <a:t>, José. </a:t>
            </a:r>
            <a:r>
              <a:rPr b="0" i="1" lang="pt-BR" sz="1400" spc="-1" strike="noStrike">
                <a:solidFill>
                  <a:srgbClr val="244429"/>
                </a:solidFill>
                <a:latin typeface="Tahoma"/>
              </a:rPr>
              <a:t>Manual de Análise ( Léxica e Sintática).</a:t>
            </a:r>
            <a:r>
              <a:rPr b="0" lang="pt-BR" sz="1400" spc="-1" strike="noStrike">
                <a:solidFill>
                  <a:srgbClr val="244429"/>
                </a:solidFill>
                <a:latin typeface="Tahoma"/>
              </a:rPr>
              <a:t> Liv. Francisco Alves RJ. 1939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44429"/>
                </a:solidFill>
                <a:latin typeface="Tahoma"/>
              </a:rPr>
              <a:t>CHIAPPINI</a:t>
            </a:r>
            <a:r>
              <a:rPr b="0" lang="pt-BR" sz="1400" spc="-1" strike="noStrike">
                <a:solidFill>
                  <a:srgbClr val="244429"/>
                </a:solidFill>
                <a:latin typeface="Tahoma"/>
              </a:rPr>
              <a:t>, Lígia / Morães Leite. </a:t>
            </a:r>
            <a:r>
              <a:rPr b="0" i="1" lang="pt-BR" sz="1400" spc="-1" strike="noStrike">
                <a:solidFill>
                  <a:srgbClr val="244429"/>
                </a:solidFill>
                <a:latin typeface="Tahoma"/>
              </a:rPr>
              <a:t>O Foco Narrativo</a:t>
            </a:r>
            <a:r>
              <a:rPr b="0" lang="pt-BR" sz="1400" spc="-1" strike="noStrike">
                <a:solidFill>
                  <a:srgbClr val="244429"/>
                </a:solidFill>
                <a:latin typeface="Tahoma"/>
              </a:rPr>
              <a:t>. 2ª Edição. Ed. Ática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44429"/>
                </a:solidFill>
                <a:latin typeface="Tahoma"/>
              </a:rPr>
              <a:t>CUNHA</a:t>
            </a:r>
            <a:r>
              <a:rPr b="0" lang="pt-BR" sz="1400" spc="-1" strike="noStrike">
                <a:solidFill>
                  <a:srgbClr val="244429"/>
                </a:solidFill>
                <a:latin typeface="Tahoma"/>
              </a:rPr>
              <a:t>,  Antônio Geraldo da. </a:t>
            </a:r>
            <a:r>
              <a:rPr b="0" i="1" lang="pt-BR" sz="1400" spc="-1" strike="noStrike">
                <a:solidFill>
                  <a:srgbClr val="244429"/>
                </a:solidFill>
                <a:latin typeface="Tahoma"/>
              </a:rPr>
              <a:t>Dicionário Etimológico</a:t>
            </a:r>
            <a:r>
              <a:rPr b="0" lang="pt-BR" sz="1400" spc="-1" strike="noStrike">
                <a:solidFill>
                  <a:srgbClr val="244429"/>
                </a:solidFill>
                <a:latin typeface="Tahoma"/>
              </a:rPr>
              <a:t>. Nova Fronteir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44429"/>
                </a:solidFill>
                <a:latin typeface="Tahoma"/>
              </a:rPr>
              <a:t>BELEZZA</a:t>
            </a:r>
            <a:r>
              <a:rPr b="0" lang="pt-BR" sz="1400" spc="-1" strike="noStrike">
                <a:solidFill>
                  <a:srgbClr val="244429"/>
                </a:solidFill>
                <a:latin typeface="Tahoma"/>
              </a:rPr>
              <a:t>, Newton. </a:t>
            </a:r>
            <a:r>
              <a:rPr b="0" i="1" lang="pt-BR" sz="1400" spc="-1" strike="noStrike">
                <a:solidFill>
                  <a:srgbClr val="244429"/>
                </a:solidFill>
                <a:latin typeface="Tahoma"/>
              </a:rPr>
              <a:t>Teatro Grego e Teatro Romano</a:t>
            </a:r>
            <a:r>
              <a:rPr b="0" lang="pt-BR" sz="1400" spc="-1" strike="noStrike">
                <a:solidFill>
                  <a:srgbClr val="244429"/>
                </a:solidFill>
                <a:latin typeface="Tahoma"/>
              </a:rPr>
              <a:t>. RJ. Pongetti, 1966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44429"/>
                </a:solidFill>
                <a:latin typeface="Tahoma"/>
              </a:rPr>
              <a:t>SKIFFITHS</a:t>
            </a:r>
            <a:r>
              <a:rPr b="0" lang="pt-BR" sz="1400" spc="-1" strike="noStrike">
                <a:solidFill>
                  <a:srgbClr val="244429"/>
                </a:solidFill>
                <a:latin typeface="Tahoma"/>
              </a:rPr>
              <a:t>, Trevor.  </a:t>
            </a:r>
            <a:r>
              <a:rPr b="0" i="1" lang="pt-BR" sz="1400" spc="-1" strike="noStrike">
                <a:solidFill>
                  <a:srgbClr val="244429"/>
                </a:solidFill>
                <a:latin typeface="Tahoma"/>
              </a:rPr>
              <a:t>O que Representar</a:t>
            </a:r>
            <a:r>
              <a:rPr b="0" lang="pt-BR" sz="1400" spc="-1" strike="noStrike">
                <a:solidFill>
                  <a:srgbClr val="244429"/>
                </a:solidFill>
                <a:latin typeface="Tahoma"/>
              </a:rPr>
              <a:t>. Caderno de Teatro d’o Tablado - 1986.</a:t>
            </a: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808000"/>
                </a:solidFill>
                <a:latin typeface="Colonna MT"/>
              </a:rPr>
              <a:t>ASSESSORIA JÔSY DANTAS E RAY LIMA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cc"/>
                </a:solidFill>
                <a:latin typeface="Arial Black"/>
              </a:rPr>
              <a:t>PRÓXIMOS FOLHET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9201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666633"/>
                </a:solidFill>
                <a:latin typeface="Tahoma"/>
              </a:rPr>
              <a:t>2º Folheto: Comédia Romana, Os Mistérios e as Farsas Medievai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666633"/>
                </a:solidFill>
                <a:latin typeface="Tahoma"/>
              </a:rPr>
              <a:t>3º Folheto: Commédia Dell’Ar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666633"/>
                </a:solidFill>
                <a:latin typeface="Tahoma"/>
              </a:rPr>
              <a:t>4º Folheto: O teatro épico Brecht e o lirismo de Garcia Lorc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666633"/>
                </a:solidFill>
                <a:latin typeface="Tahoma"/>
              </a:rPr>
              <a:t>5º Folheto: Shakespeare e o Teatro da Renascença e o Teatro de Ouro  </a:t>
            </a:r>
            <a:r>
              <a:rPr b="1" lang="pt-BR" sz="1600" spc="-1" strike="noStrike">
                <a:solidFill>
                  <a:srgbClr val="666633"/>
                </a:solidFill>
                <a:latin typeface="Tahoma"/>
              </a:rPr>
              <a:t>	</a:t>
            </a:r>
            <a:r>
              <a:rPr b="1" lang="pt-BR" sz="1600" spc="-1" strike="noStrike">
                <a:solidFill>
                  <a:srgbClr val="666633"/>
                </a:solidFill>
                <a:latin typeface="Tahoma"/>
              </a:rPr>
              <a:t>           Espanho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666633"/>
                </a:solidFill>
                <a:latin typeface="Tahoma"/>
              </a:rPr>
              <a:t>6º Folheto: O Teatro de Rua e outros moviment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666633"/>
                </a:solidFill>
                <a:latin typeface="Tahoma"/>
              </a:rPr>
              <a:t>7º Folheto: Autores, teorias e práticas contemplando Stanislavisk,     </a:t>
            </a:r>
            <a:r>
              <a:rPr b="1" lang="pt-BR" sz="1600" spc="-1" strike="noStrike">
                <a:solidFill>
                  <a:srgbClr val="666633"/>
                </a:solidFill>
                <a:latin typeface="Tahoma"/>
              </a:rPr>
              <a:t>	</a:t>
            </a:r>
            <a:r>
              <a:rPr b="1" lang="pt-BR" sz="1600" spc="-1" strike="noStrike">
                <a:solidFill>
                  <a:srgbClr val="666633"/>
                </a:solidFill>
                <a:latin typeface="Tahoma"/>
              </a:rPr>
              <a:t>          Grotowisk, Edward Gordon Craig, Antonin Artaud, entre outro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666633"/>
                </a:solidFill>
                <a:latin typeface="Tahoma"/>
              </a:rPr>
              <a:t>8º Folheto: O Teatro no Brasi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666633"/>
                </a:solidFill>
                <a:latin typeface="Tahoma"/>
              </a:rPr>
              <a:t>9º Folheto: O Novo Movimento Cultural Escambo Popular de Ru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666633"/>
                </a:solidFill>
                <a:latin typeface="Tahoma"/>
              </a:rPr>
              <a:t>10º O teatro do CERVANTES do Brasi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524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91200" y="1885680"/>
            <a:ext cx="4524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07560" y="5334120"/>
            <a:ext cx="62049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3300"/>
                </a:solidFill>
                <a:latin typeface="Times New Roman"/>
              </a:rPr>
              <a:t>SANTOS</a:t>
            </a:r>
            <a:r>
              <a:rPr b="0" lang="pt-BR" sz="1400" spc="-1" strike="noStrike">
                <a:solidFill>
                  <a:srgbClr val="003300"/>
                </a:solidFill>
                <a:latin typeface="Times New Roman"/>
              </a:rPr>
              <a:t>, Júnio,  En</a:t>
            </a:r>
            <a:r>
              <a:rPr b="1" lang="pt-BR" sz="1400" spc="-1" strike="noStrike">
                <a:solidFill>
                  <a:srgbClr val="003300"/>
                </a:solidFill>
                <a:latin typeface="Times New Roman"/>
              </a:rPr>
              <a:t>tre o Choro e o Riso:</a:t>
            </a:r>
            <a:r>
              <a:rPr b="0" lang="pt-BR" sz="1400" spc="-1" strike="noStrike">
                <a:solidFill>
                  <a:srgbClr val="003300"/>
                </a:solidFill>
                <a:latin typeface="Times New Roman"/>
              </a:rPr>
              <a:t>  A História      do   Teatro em   Versos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00"/>
                </a:solidFill>
                <a:latin typeface="Times New Roman"/>
              </a:rPr>
              <a:t>       </a:t>
            </a:r>
            <a:r>
              <a:rPr b="0" lang="pt-BR" sz="1400" spc="-1" strike="noStrike">
                <a:solidFill>
                  <a:srgbClr val="003300"/>
                </a:solidFill>
                <a:latin typeface="Times New Roman"/>
              </a:rPr>
              <a:t>Folheto em Cordel - Aracati - CE,</a:t>
            </a: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pt-BR" sz="1400" spc="-1" strike="noStrike">
                <a:solidFill>
                  <a:srgbClr val="003300"/>
                </a:solidFill>
                <a:latin typeface="Times New Roman"/>
              </a:rPr>
              <a:t>1998</a:t>
            </a:r>
            <a:r>
              <a:rPr b="0" lang="pt-BR" sz="2000" spc="-1" strike="noStrike">
                <a:solidFill>
                  <a:srgbClr val="003300"/>
                </a:solidFill>
                <a:latin typeface="Times New Roman"/>
              </a:rPr>
              <a:t>.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14080" y="1885680"/>
            <a:ext cx="9201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Ao Nhanduí e Arte Viva</a:t>
            </a:r>
            <a:r>
              <a:rPr b="1" lang="pt-BR" sz="1800" spc="-1" strike="noStrike">
                <a:solidFill>
                  <a:srgbClr val="385243"/>
                </a:solidFill>
                <a:latin typeface="Colonna MT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	</a:t>
            </a: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	</a:t>
            </a: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Messias, Orlângelo e Ray Lima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	</a:t>
            </a: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	</a:t>
            </a: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Ao  Movimento de rua                         </a:t>
            </a: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	</a:t>
            </a: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	</a:t>
            </a: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Ao teatro sem cortina                                        </a:t>
            </a: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	</a:t>
            </a: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	</a:t>
            </a: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A minha pequena giganta                                </a:t>
            </a: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	</a:t>
            </a: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	</a:t>
            </a: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A amada Jôsy Dantas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	</a:t>
            </a: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	</a:t>
            </a:r>
            <a:r>
              <a:rPr b="1" lang="pt-BR" sz="2400" spc="-1" strike="noStrike">
                <a:solidFill>
                  <a:srgbClr val="385243"/>
                </a:solidFill>
                <a:latin typeface="Colonna MT"/>
              </a:rPr>
              <a:t>Deusa da minha ri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6699ff"/>
                </a:solidFill>
                <a:latin typeface="Arial Black"/>
              </a:rPr>
              <a:t>                </a:t>
            </a:r>
            <a:r>
              <a:rPr b="1" lang="pt-BR" sz="4000" spc="-1" strike="noStrike">
                <a:solidFill>
                  <a:srgbClr val="6699ff"/>
                </a:solidFill>
                <a:latin typeface="Arial Black"/>
              </a:rPr>
              <a:t>OFERECIMENT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2" name="COMÉDIA%20E%20TRAGÉDIA" descr=""/>
          <p:cNvPicPr/>
          <p:nvPr/>
        </p:nvPicPr>
        <p:blipFill>
          <a:blip r:embed="rId1"/>
          <a:stretch/>
        </p:blipFill>
        <p:spPr>
          <a:xfrm>
            <a:off x="6324480" y="2133720"/>
            <a:ext cx="28195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33ff"/>
                </a:solidFill>
                <a:latin typeface="Arial Black"/>
              </a:rPr>
              <a:t>JÚNIO SANT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524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lvl="3" marL="1216080" indent="-17352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Colonna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lonna MT"/>
              </a:rPr>
              <a:t>Sou filho da rua                                                              E do mundo                                                                                Do teatro popular                                                                  Vivo em todo lugar                                                             Onde vive vagabundos                                               Que comigo canta                                                                   Dança e se encanta                                                                           A fome do corpo espanta                                                        Para o espírito  alimentar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2160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216080" indent="-17352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6600"/>
                </a:solidFill>
                <a:latin typeface="Tahoma"/>
              </a:rPr>
              <a:t>Ator, Autor, Encenador, Palhaço e Educador Popular  em cena deste 1973, Diretor do CERVANTES do Brasil, brincante de teatro de rua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JÚNIO" descr=""/>
          <p:cNvPicPr/>
          <p:nvPr/>
        </p:nvPicPr>
        <p:blipFill>
          <a:blip r:embed="rId1"/>
          <a:stretch/>
        </p:blipFill>
        <p:spPr>
          <a:xfrm>
            <a:off x="5143680" y="1752480"/>
            <a:ext cx="45241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33ff"/>
                </a:solidFill>
                <a:latin typeface="Arial Black"/>
              </a:rPr>
              <a:t>PRÓLOG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524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Usando a arte do povo                                Para melhor lhe informar                          Venho com estes versos                            Uma história contar                                    Sobre a arte do teatro                                Aquela que idolatro                                  E acho espetacular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II                                                                  Cantarei versos por versos                         Essa arte tão brilhante                                 O teatro ocidental                                      Onde a cada instante                                 Nasce na rua um ator                                Que tem que ser conhecedor                    Dessa história tão marcan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91200" y="1885680"/>
            <a:ext cx="4524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    </a:t>
            </a: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Na rima chorarei na tragédia               E dançarei no ritual                               Darei risadas na comédia                            Declamarei no jogral                                   Sofrerei dentro do drama                            Pois tudo que a gente ama                       É o fazer teatr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      </a:t>
            </a: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IV                                                               Assim peço licença a Dioniso                   Ésquilos, Théspis e Boal                         A Aristófanes e a Sófocles                        Shakespeare e Arrabal                              A Brecht e </a:t>
            </a:r>
            <a:r>
              <a:rPr b="1" i="1" lang="pt-BR" sz="1600" spc="-1" strike="noStrike">
                <a:solidFill>
                  <a:srgbClr val="25452a"/>
                </a:solidFill>
                <a:latin typeface="Tahoma"/>
              </a:rPr>
              <a:t>Amir Haddat</a:t>
            </a: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                         Para que eu possa rimar                            Com a história teatr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33ff"/>
                </a:solidFill>
                <a:latin typeface="Arial Black"/>
              </a:rPr>
              <a:t>O RITU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524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Na sociedade primitiva                               Época da caça ao animal                          Dos cultos a vários deuses                         Da festa e do bacanal                                Nasce o teatro do Ocidente                      Expressão remanescente                           De mitos e ritu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      </a:t>
            </a: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VI                                                             Os Ritos eram realizados                          Pelos bruxos e feiticeiros                         Com o intuito de afastar                           Os espíritos zombeteiros                              Agradecer aos deuses                               E muitas e muitas vezes                            Louvar os seus guerreir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91200" y="1885680"/>
            <a:ext cx="4524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VII                                                                Foi dessa forma primitiva                           Que nasceu a teatralização                        O trágico e o bacanal                                 A dramatização                                          A velha e clássica tragédia                        A hilariante comédia                                  O drama e o dramalhão                                VIII</a:t>
            </a: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 </a:t>
            </a: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Depois veio a dança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E também a pantomima                            Fruto dos cultos a Dioniso                       Deus do vinho e da vindima                        Da embriaguês e da alegria                       Do teatro e da orgia                                    Das bacantes e da rim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33ff"/>
                </a:solidFill>
                <a:latin typeface="Arial Black"/>
              </a:rPr>
              <a:t>THÉSPIS </a:t>
            </a:r>
            <a:r>
              <a:rPr b="1" lang="pt-BR" sz="2800" spc="-1" strike="noStrike">
                <a:solidFill>
                  <a:srgbClr val="3333ff"/>
                </a:solidFill>
                <a:latin typeface="Arial Black"/>
              </a:rPr>
              <a:t>( O PRIMEIRO ATOR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524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IX   </a:t>
            </a:r>
            <a:r>
              <a:rPr b="0" lang="pt-BR" sz="1600" spc="-1" strike="noStrike">
                <a:solidFill>
                  <a:srgbClr val="25452a"/>
                </a:solidFill>
                <a:latin typeface="Tahoma"/>
              </a:rPr>
              <a:t>                                                            </a:t>
            </a: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Foi dessa fantasia                                     Que Théspis apareceu                               E num altar improvisado                             Iniciou seu apogeu                                     Se dizendo Dioniso                                  Com máscara de choro e riso                    Interpretou o grande deu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       </a:t>
            </a: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X                                                               E transformou sua carroça                       No primeiro palco volante                          Saiu feito um mambembe                          Um artista intinerante                                Interpretando o novo                                 Fazendo teatro pro povo                           De forma bem atuan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91200" y="1885680"/>
            <a:ext cx="4524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XI                                                               Assim no Mercado de Atenas                      Contra a vontade de Solon                        Théspis, o primeiro ator                         Desenvolveu o seu dom                            Criando o protagonista                             Dando mais vida ao artista                        Ao teatro dando  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      </a:t>
            </a: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XII                                                                                  Mas logo a carroça de Théspis                 Teve que se adaptar                                  Aos espaços construídos                            Com palco e lugar pra sentar                    Onde o povo acomodado                          Assistiam relaxados                                  Esta arte popul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ff"/>
                </a:solidFill>
                <a:latin typeface="Arial Black"/>
              </a:rPr>
              <a:t>TRAGÉDIA GREG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524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5452a"/>
                </a:solidFill>
                <a:latin typeface="Tahoma"/>
              </a:rPr>
              <a:t>	</a:t>
            </a:r>
            <a:r>
              <a:rPr b="1" lang="pt-BR" sz="1600" spc="-1" strike="noStrike">
                <a:solidFill>
                  <a:srgbClr val="25452a"/>
                </a:solidFill>
                <a:latin typeface="Arial Narrow"/>
              </a:rPr>
              <a:t>XIII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e linguagem elevada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Tinha a finalidade 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e falar dos destinos adversos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a nobreza e da bondade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o luto e do sacrifício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o fim, do meio e princípio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a luta contra a fatalida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    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XIV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Era muito emocionante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Levava o povo a chorar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A sentir-se na pele do herói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A querer se libertar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as sufocantes paixões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E das grandes emoções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Também poder se liber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1200" y="1885680"/>
            <a:ext cx="4524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XV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Versava sobre realidades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Falava de hérois legendários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a luta contra o destino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o sofrimento diário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a coragem e da rebeldia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a tristeza, mitos e agonia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e seu povo legionár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    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XVI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epois de um tempo a tragédia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Mudou sua atuação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Frínicos criou as máscaras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Pôs a mulher na ação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Ésquilo com o segundo ator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A trama transformou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ando-lhe mais emoçã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1000" y="457200"/>
            <a:ext cx="1002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ff"/>
                </a:solidFill>
                <a:latin typeface="Arial Black"/>
              </a:rPr>
              <a:t>TRAGÉDIA GREG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4080" y="1885680"/>
            <a:ext cx="4524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XVII  </a:t>
            </a:r>
            <a:r>
              <a:rPr b="0" lang="pt-BR" sz="1400" spc="-1" strike="noStrike">
                <a:solidFill>
                  <a:srgbClr val="25452a"/>
                </a:solidFill>
                <a:latin typeface="Arial Narrow"/>
              </a:rPr>
              <a:t>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Em seguida veio o cenário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O coturno e o figurino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Ésquilo aperfeiçoou a máscara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ando-lhe um tom mais fino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Sófocles deu continuidade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Trazendo mais novidades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Modificando o destin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       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XVIII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Tirou a importância do coro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Inventou a cenografia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introduziu o terceiro ator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E o fundo do palco cria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ando mais organização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Mudando a dramatização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	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O visual e a fantas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91200" y="1885680"/>
            <a:ext cx="4524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XIX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Por fim veio Eurípedes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E com ele a tragédia alcançou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O ápice de sua história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Pois ele modificou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Toda a sua estrutura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Vestindo de nova armadura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Esta arte de val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XX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E foi chamado de pintor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o sentimento e da paixão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O dramaturgo da força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a alma, do coração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O último dos três autores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os grandes pais criadores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5452a"/>
                </a:solidFill>
                <a:latin typeface="Arial Narrow"/>
              </a:rPr>
              <a:t>Dessa tragédia de açã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2T14:58:52Z</dcterms:created>
  <dc:creator>João Batista dos Santos Júnior</dc:creator>
  <dc:description/>
  <dc:language>en-US</dc:language>
  <cp:lastModifiedBy>marcio</cp:lastModifiedBy>
  <cp:lastPrinted>1999-06-04T19:11:18Z</cp:lastPrinted>
  <dcterms:modified xsi:type="dcterms:W3CDTF">2000-09-08T04:46:45Z</dcterms:modified>
  <cp:revision>42</cp:revision>
  <dc:subject/>
  <dc:title>O TEATRO EM VERSOS</dc:title>
</cp:coreProperties>
</file>